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01B9-FD88-41F5-A6B5-BDCBAFC77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3687-2B0E-47B7-B81B-B84E5485F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8D7B-E04C-45E6-8892-2E8DBB675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ADA4-A051-49E6-BBDC-C761B96F0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80A50-7941-4B1C-A25E-D80A041D8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67B09-2AD2-4158-A7AE-B85380BAB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9215F-7072-4687-B9F3-19D6D5AB0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904D2-BE81-4051-8420-55E6656E4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7C8B1-35BE-453A-AE28-176BE1849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BBBCD-48E9-4A1A-B0D9-7592823CE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B5F71-AF5D-45F1-BFA9-B9EE2C7D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D4DD-EEAB-47BA-908A-118CA294E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6EABC-15E9-408E-8ABC-BB1521BD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D3B34-3D78-4F3E-8058-427CA235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1BA31-6C7D-4506-A874-1975C1BE8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C4708-D5C5-4A9D-9249-67CCCD8DD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C3D26-F885-4E83-A5C5-F40B00125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E00C-AF8B-4065-BAB9-D66D6116A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D9B9-C317-4DD6-892C-981EC3C13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1FC1-3A7A-4912-A61F-AAF55608E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A7FA-3C30-4A43-83ED-97C2AD48C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A556-ED48-43B5-B98B-F8E22634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C99B-8B4A-401E-B934-003901B9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11F3-1CB1-4F4C-A471-3C358659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F898D-D274-4573-B688-86A834EF787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B4531-4C59-4DBD-A1A6-82136929B1A6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Sir, We Would See Jesus</a:t>
            </a:r>
            <a:br>
              <a:rPr sz="4800"/>
            </a:b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-Life of Christ-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Quarter 9, Lesson 3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Pages 9-15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Matt. 2:1-23; John 1:1;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Luke 3:23-38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4198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5562720" y="1371600"/>
            <a:ext cx="33145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Kingdom of Herod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 Great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7162920" cy="54342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2286000" y="0"/>
            <a:ext cx="4362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Follow The Rout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0" name=""/>
          <p:cNvSpPr/>
          <p:nvPr/>
        </p:nvSpPr>
        <p:spPr>
          <a:xfrm>
            <a:off x="7238880" y="914400"/>
            <a:ext cx="19051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eaeae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Bethlehem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eaeae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Jerusalem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eaeae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gyp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eaeae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Nazareth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Years of Prepar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The visit of the Wise M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(Matt. 2:1-12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ec8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Wise men from the east follow His star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ec8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rriving in Jerusalem, they inquire:  “Where is the one born king of the Jews?”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ec8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old by King Herod – “find where the child is so that I may worship him”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ec8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ey follow the star to a house in Bethlehe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ec8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ey worship the child and give Him gift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ec8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Warned by God not to return to Hero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5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The 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Years</a:t>
            </a: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 of Preparation</a:t>
            </a:r>
            <a:br>
              <a:rPr sz="48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Flight into Egypt 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(Matt. 2:13-15)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Joseph takes Mary, baby, and flees 200 miles south down into Egyp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rophesy of Hosea 11:1 fulfille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erod finding out he had been tricked became enraged -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ec8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ommanded his soldiers to go to Bethlehem and kill all young males up to two years ol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The Years of Preparation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The Herodian Family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Father and son both named Antipate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ere governors of the Idumean peopl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ntipater’s son, Herod the Great, was made king of Judea by the Romans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(37-4 B.C.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uilt the great port city of Caesare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uilt aqueduct 13 miles long to water cit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ebuilt temple in Jerusalem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(20 B.C. - A.D. 70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urdered his father-in-law, his wife, two sons, many others and tried to kill Jesu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The Years of Preparation</a:t>
            </a:r>
            <a:br>
              <a:rPr sz="4000"/>
            </a:b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Return to Nazareth (Matt. 2:19-23)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erod has died, Archelaus his son reign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n angel of God commands Joseph to return to Isra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Joseph returns to his home town of Nazareth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azarene” comes from Nazar which means shoot or root - see Isa. 11:1;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Jer. 23:5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277920"/>
            <a:ext cx="8534160" cy="14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Years of Preparation</a:t>
            </a:r>
            <a:br>
              <a:rPr sz="44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hy worship this baby? Who is He? (John 1:1-18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ngels announced His birth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hepherds came to see H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ise men worshiped H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e was in the beginning. Always was!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e was divin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rough Him all things were create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Legal heir to David’s thron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He is God’s s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Years of Preparation</a:t>
            </a:r>
            <a:br>
              <a:rPr sz="44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Names applied to this baby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Jesus (Luke 1:31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mmanuel (Matt. 1:23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hrist (Rom. 8:12) (Luke 9:20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essiah (John 4:25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avior (II Tim.1:10)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hief Shepherd (I Pet. 5:4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reat High Priest (Heb. 4:14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on of David (Matt. 9:27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Son of God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(Rom. 1:4)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5T22:35:03Z</dcterms:created>
  <dc:creator> Tab Vines</dc:creator>
  <dc:description/>
  <dc:language>en-US</dc:language>
  <cp:lastModifiedBy>Frank D Vines</cp:lastModifiedBy>
  <dcterms:modified xsi:type="dcterms:W3CDTF">2006-07-16T12:36:03Z</dcterms:modified>
  <cp:revision>21</cp:revision>
  <dc:subject/>
  <dc:title>Sir, We Would See Jesus</dc:title>
</cp:coreProperties>
</file>